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70080" y="-504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3080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70080" y="883080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605818-8F56-4091-8058-DEA2362303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7400" y="8852040"/>
            <a:ext cx="1274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5F8591C1-BC76-4874-99DC-D3068D61C506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90160" y="70632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E24AA2-A2A9-496B-BD11-BD059D8FB20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0016B5-9B14-44C5-A42A-B4661E2C5E4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inspections expend a considerable amount of effo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ral team members will need to prepare for and participate in the insp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dividual should have done a thorough personal review and certify that the product is ready for team insp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the product is not ready for team inspection, the team’s time will be was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5725F98-B25D-4073-B2AE-1D53DD49D9B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 with the quality manager to conduct inspection pre-re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the results of the design and code activit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the results of the personal re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ess whether or not the product(s) are ready for team inspection.  Use the criteria listed on the following sl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estimating defects, capture and recapt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1A0AABC-DD15-4BDF-A21C-ACC82121669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ED28FE-BEF5-49A5-AD28-F9379AF0DAF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D8EEA52-34D7-4A0D-AC73-081640E7DE7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e than just reviewing designs – checklists not useful – you need verification metho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activity can be the most overlooked activity on a TSP team:  Few engineers take the time to produce comprehensive, detailed designs or even use appropriate methods.  Design mistakes inevitably occur.  Many design mistakes are difficult to find, even in te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ve the design manager lead the design effort:  Identify the most likely individuals to produce the design methods and standards.  Typically, look to the senior experts who have proven design methods in place for themsel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manager can follow these general steps: Propose the design methods and standards to the team; Get agreement from the team; Provide the necessary tools and train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must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he design methods.  This is more important than proper tools and training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ten, engineers do not use design methods if they can think of reasons why the methods are inappropriate for their work: Their programs are too small or too large; The methods do not apply to their domain;This is primarily a discipline problem, not a design method probl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manager should review the individuals’ work: Make sure that each individual is using good design methods: If the methods don’t work, adjust them; If individuals refuse to use the methods, raise the issue to the team leader and/or the tea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02BEB2-B829-4FEC-B343-4DC1B75C429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DA3BA3F-B4B7-4F6A-93F7-FB858E687B8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130F70-F6D4-4E08-810A-D706D427C64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2A8AC4C-BE19-4899-A714-38FFF7EFB9B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0C7F68E-A994-4C72-9784-226B3F2F54D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C456A7E-A91D-4849-9F5F-849C3FCE1A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615A133-E251-4517-8C77-28C5ED8062A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A849050-CFFC-4C5E-B6A5-F66DA5E882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48C75D-656B-4FF8-942A-D87F6D79CCC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1EC48B0-2F08-41C7-B871-74406D23811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44D352-8173-4C8E-A5D1-CFA44594B98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FFA265D-55FC-4FA0-B280-1B6D7584931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E4E3047-2F2F-4823-B5EA-8E4E5D143B3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0CC426D-1D91-40FD-9A72-4B2D7B1679B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5AA133-9339-4A75-A1ED-93029C0B415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81A16F7-7A42-4FF6-A047-D5DD56A5043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6637805-1BB7-4D88-9D68-A3557FEF008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6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570FFF-3486-4C64-960B-8B82AB9C2FC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 individuals will resist and struggle against the TSP quality metho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re than likely, it is simply that the individual engineers do not really understand the TSP quality methods, and how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asure and analyze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the process more effec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plan values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 versus coding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spent in design and code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ount of effort planned for inspe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ned defect densities, injection rates, and yie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the engineers refuse to revise their pl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to monitor their actual data and offer recommendations as they move for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 the issues with management (when necessar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3578D61-3016-4EED-93BB-FEDD26C98BA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F670849-D8E2-4270-8868-641AD3A5A04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5CC65B5-EEE3-4272-BA40-D9EB36DAF84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intended to be a summa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is pilot, I would just suggest talking to each bullet for 1 minute --- a quick overview of which each me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will come back to some of these points la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E9FD715-3B80-46EA-B26D-FFFD5ACDF86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7F2A29C-9AEE-4FB6-A955-9CC9681A1DF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/code time = 1: as design time reduces, score reduces proportion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e with review time parameters.  If 25% versus 50%, value = 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s found in unit test =11.9: score =(2*5)/11.9+5 = 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3C4EF7F-BAA5-4B62-8DFB-C7291E2FB8C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8CA9F1B-7470-4A50-8F2B-83F75A7489A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/code time = 1: as design time reduces, score reduces proportion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e with review time parameters.  If 25% versus 50%, value = 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s found in unit test =11.9: score =(2*5)/11.9+5 = 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88BE318-30F1-4D6C-BB64-6D071EFAE31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06B1E84-C1FE-42E9-AC1C-23556B177F9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ABB949-0341-4DB4-97D6-777798A8BFD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engineers do not have a good process, or are not collecting data, it will show up on these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3F29230-A6B1-4484-8CE4-A75C78D1466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ECA2C8-F8FA-439F-BD07-7FA05C8B07F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A3FD0F5-A687-4BBB-933D-32CA306B5E3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7147F15-0333-42F8-BA8B-D5C11387779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4906129-2E76-451F-B6E1-EAF7091E0C0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67FAA4F-C8BF-4175-B643-B2553ED1DCF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C3A80B2-8CCB-4000-B126-58D69118999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5E5CE71-0069-407E-BB94-B105904D46A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8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900" spc="-1" strike="noStrike">
                <a:solidFill>
                  <a:srgbClr val="39536b"/>
                </a:solidFill>
                <a:latin typeface="Arial"/>
              </a:rPr>
              <a:t>© 2007 Carnegie Mellon Univers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Course Title | Module #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3970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CB884C1-7FAA-4319-BA7A-C61D0EE9331B}" type="datetime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2040" y="4414680"/>
            <a:ext cx="514656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TEAM TO GET THIS INFORMATION, THEY MUST RECORD GOOD DATA…. Which sets up for the next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pections assumes 2 inspectors + 1 produ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 To be effective this data must include all people affected by a defect time to Find, Fix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example in system test, it is the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for tester to see the sympt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 to reproduce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 to record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eproduce it for the devel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he developer to find the root ca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likely time to be processed in CC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ime to f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ime to review, inspect, unit test the f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elease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est it in system 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un regression te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3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EB4324B-518A-485B-98E3-2DB6873E46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35B2621-EBCC-48B5-9817-3205CDA3E9F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 quality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processes with defect removal ph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ect data on defect injection, removal, costs, and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 for defect injection and removal using historical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for high quality results with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alyzing economics of qua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ing for measured impro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usal analysis of escaped def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 prevention activ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E6546D4-7A9E-4E58-9052-8D3F06B223D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3D9DDC0-ED94-4737-B7A7-68235D850F3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571F4936-FBA9-449D-8AE3-B35232F4C4C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85F38C44-E1A7-4B13-9B57-585F913D317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Maintaining a Quality Focu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Quality Journe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eight steps along the quality journe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and fix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owner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r-based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steps are describ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ving from Test to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720" y="1538280"/>
            <a:ext cx="7797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should work with teams to move from a test- and-fix mentality to one of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1.  Test and fi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rely on testing to find and fix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focus on more effective and efficient test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2.  Inspec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and individuals begin to use inspections to remove defects before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can help team members to do high-quality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 to improve personal reviews and to establish a sense of ownership of defects at the individual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the Inspection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3.  Parti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look at inspection data and use the data to improve both the inspection process and the defective product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for the coach is to get teams to collect adequat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individuals to collect their own data as they use the team inspectio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team to look at team aggregate data and to get a sense of what value the data prov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nalizing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720" y="1709640"/>
            <a:ext cx="7797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4.  Quality ownershi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are responsible for the quality of the products that they produc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must treat every personal review as certification that their product is free of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defects are found in inspections and test, the individual must find and fix those defects and try to prevent them in the futur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is responsible for the components of the system that they produc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works with the team to help establish ownership and accountability for high-quality produ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the Personal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5.  Person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use their PSP skills to understand their own defect injection and removal history to improve the way that the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get the individuals to collect and use the data; work with individuals to coll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individuals to identify areas of strength and weak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o identify design as a key area for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568520"/>
            <a:ext cx="7413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6.  Desig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manage their coding and simple design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start to focus on truly challenging design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precise and well-defined design practices, as well as sound design verification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omplishing this step depends on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kills of the individu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ypes of practices and methods that are applicable to the team and their domai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standards and procedures for using these practices and metho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 with the senior leads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ablish the standards, practices, methods, and proced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 team membe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100480" y="0"/>
            <a:ext cx="404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9c2108"/>
                </a:solidFill>
                <a:latin typeface="Arial"/>
              </a:rPr>
              <a:t>Focus on Defect Prevention and User-Based Measurement</a:t>
            </a:r>
            <a:endParaRPr b="1" lang="en-US" sz="2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7.  Defect preven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previous methods in place, the individuals and teams can practice true defect preven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a structured procedure for identifying the changes needed to eliminat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get the defect prevention program initiated and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8.  User-based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ltimately, the quality program should be driven by user-based quality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understand who the users are, the quality characteristics that are important to them, and how to measure these characteristics (e.g., usability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Inspection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experience doing inspec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often do you have your work products inspect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you do inspections of other people’s wor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you use checklist driven inspec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Have Inspec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ions are the team’s early window into product quality during develop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general, effective personal reviews and team inspections will significantly decrease test time and shorten overall developmen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st software defects are found by inspecting the cod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a personal review or team inspe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response to a compile or test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response to a problem repor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question is, “Are you inspecting effectively?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maintaining a quality foc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where teams are with respect to the quality journey and what they need to do to impr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methods, forms, and tools that support the TSP quality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Inspection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TSP inspection process is specified in script I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quality manager either acts as the inspection moderator or ensures that one is available.  (See the TSP ROLE Specification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process has features common to other effective inspection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 preliminary check of the product to ensure that it is ready for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review by two or more individuals other than the produc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n inspection meeting to compare and consolidate findings from the individual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ique Features of TSP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526760"/>
            <a:ext cx="741348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quality manager takes the lead, either performing the moderator’s role or designating a qualified moderator for each inspe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pre-inspection is more structured than in other inspection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sciplined, checklist-driven PSP personal review skills and methods are assu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inspections should use appropriate design verification techniques, as indic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remaining in the product are estimated using the capture-recapture metho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liminary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90480" y="165708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Before starting the inspection process, the moderator personally reviews the product to ensure that it is of inspection quality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is of high quality, it is ins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is not of high quality, the producer is asked to re-review the product and record all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Chapter 19 (p 252) of Coaching Development Teams has inspection pre-review checklists for design and code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Brief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moderator verifies that the inspection entry criteria have been me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ducer familiarizes the team with the produc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reviewers select viewpoints or areas for product concentration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moderator schedules the inspection meeting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Prepa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make detailed produc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entrate on their selected viewpoint or product are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 their defects on the product docu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time and defect data on form I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Meet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oderator ensures that the reviewers are prepar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 roles are assig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spection meeting procedure is outli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walkthroug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ers describe defects foun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are recorded on form I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ducer resolves any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ducer verifies each defect report with the review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does not attempt to solve or fix the defects repor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check:  The moderator asks for any unrecorded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Meet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on of defects rem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derator estimates the defects remaining, using the capture-recapture meth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derator determines the reviewers’ personal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note any items to add to their review checkli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ecides if a reinspection i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decide how to verify defect corre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ntry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260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eam inspections expend a considerable amount of effor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product is not ready for team inspection, the team’s time will be wasted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ducer should complete a thorough personal review and certify that the product is ready for team inspection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capture-recapture method estimates the number of major defects remaining in the product by comparing the findings of individual review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jor defects eith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the executable co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uld ultimately cause an executable code change if not fixed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other defects are considered min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, only major defects are recorded h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838080" y="2166840"/>
          <a:ext cx="6985080" cy="39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66840"/>
                    <a:ext cx="698508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Describe a High Quality Te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a team look like that was fully practicing quality management?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result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ctivities would they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they do when defects escape to custome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15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6000" y="1709640"/>
            <a:ext cx="8078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1. Identify the reviewer who found the most unique major defect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2.  Check the defects that reviewer found in column A. (A = total defects in column A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3.  In column B, check all defects found by the other reviewers.  (B = total defects for in column B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4.  Count all of the common defects between columns A and B.  (C = number of common defects between columns A and B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5.  Calculate defects remaining, using the formula (A*B/C) – (A+B-C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total defects in column A =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total defects for in column B =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number of common defects b/t columns A and B =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defects =  A*B/C = 9*9/7 = 11.57 = 1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= A+B-C = 9+9-7 = 1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remaining =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Rework and Ver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er makes repairs and updates docu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lds needed rereviews and/or re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ies fixes, as recommended by review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duct Defects vs. Inspection Defect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the product owner can classify a problem as a def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tential problems with a work product under inspection are called “defects” throughout the inspection material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in inspection and documented on form INS are not considered product defects until the product owner logs the defect in the LOGD sheet of his/her TSP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Making Inspections a team habi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teams you expect to be coach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oblems do you think the team will face in making checklist driven inspections a habit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problems will be most difficult to overco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you help the tea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20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the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eam members do not plan quality work, they most likely won’t do quality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he team plan and individual detailed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iodically during project execu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e planning and quality guidelines or team historical data to assess whether or not the plans are reasonab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plans look questionable, discuss them with the individuals or the team, as appropri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the team plans adequate time to perform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he team plan and individual detailed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iodically during project execu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ood inspection skills are dependent upon good personal review skil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inspections as peer pressure to motivate people to do effective personal review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session to ensure people build and understand their review checklis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or attend the first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a coach, aid the team leader in resisting temptation or pressure to shortchange the inspection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hasize to the quality manager the role that he/she plays in ensuring that both producer and reviewers take the inspection process serious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e appendix C of Introduction to the Team Software Process [Humphrey, 2000]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Analyzing Quality Data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profile values are determined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time &gt; 100% of cod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view time &gt; 50 % of desig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 time &gt; 50% of cod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defects &lt; 10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 defects &lt; 5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profile assigns a value for each of these measures.  Values range from 0 to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asure obtained meets the criteria, the value for that item is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lue is assigned proportionately, based on the measure ob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Management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processes with defect removal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data on defect injection, removal, costs, and detai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for defect injection and removal using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for high quality results with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economics of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ing for measured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al analysis of escaped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onent Quality Profile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576680" y="3174840"/>
            <a:ext cx="669960" cy="495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576680" y="2452680"/>
            <a:ext cx="1359000" cy="98748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4998960" y="3670200"/>
            <a:ext cx="247680" cy="792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H="1">
            <a:off x="5423040" y="3440160"/>
            <a:ext cx="512640" cy="1603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>
            <a:off x="4152960" y="4462560"/>
            <a:ext cx="8460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H="1">
            <a:off x="3730320" y="5043600"/>
            <a:ext cx="1692360" cy="32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H="1" flipV="1">
            <a:off x="3906720" y="3669840"/>
            <a:ext cx="246240" cy="792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3219480" y="3440160"/>
            <a:ext cx="511200" cy="1603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3906720" y="3174840"/>
            <a:ext cx="669960" cy="495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3219480" y="2452320"/>
            <a:ext cx="1357200" cy="98748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Freeform 19"/>
          <p:cNvSpPr/>
          <p:nvPr/>
        </p:nvSpPr>
        <p:spPr>
          <a:xfrm>
            <a:off x="3219480" y="2452680"/>
            <a:ext cx="2398680" cy="259092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136" h="147">
                <a:moveTo>
                  <a:pt x="77" y="0"/>
                </a:moveTo>
                <a:lnTo>
                  <a:pt x="136" y="62"/>
                </a:lnTo>
                <a:lnTo>
                  <a:pt x="125" y="147"/>
                </a:lnTo>
                <a:lnTo>
                  <a:pt x="37" y="136"/>
                </a:lnTo>
                <a:lnTo>
                  <a:pt x="0" y="56"/>
                </a:lnTo>
                <a:lnTo>
                  <a:pt x="77" y="0"/>
                </a:lnTo>
              </a:path>
            </a:pathLst>
          </a:custGeom>
          <a:noFill/>
          <a:ln w="15840">
            <a:solidFill>
              <a:srgbClr val="3953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3653280" y="2065320"/>
            <a:ext cx="176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Design/code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015600" y="3282840"/>
            <a:ext cx="176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Code review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489280" y="4938840"/>
            <a:ext cx="232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Compile defects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325160" y="4938840"/>
            <a:ext cx="23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Unit test defects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114560" y="3282840"/>
            <a:ext cx="19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Design review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rocess Quality Index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quality index (PQI) provides a quality figure or merit for every system el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n advanced topic that depends on having data you can capture early in the project that is predictive of the end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example is based on software where the SEI has significa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970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ponent Quality Profile Calculations</a:t>
            </a:r>
            <a:br>
              <a:rPr sz="3200"/>
            </a:b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202" name="Group 24"/>
          <p:cNvGrpSpPr/>
          <p:nvPr/>
        </p:nvGrpSpPr>
        <p:grpSpPr>
          <a:xfrm>
            <a:off x="7094520" y="3975120"/>
            <a:ext cx="1939680" cy="1953720"/>
            <a:chOff x="7094520" y="3975120"/>
            <a:chExt cx="1939680" cy="1953720"/>
          </a:xfrm>
        </p:grpSpPr>
        <p:sp>
          <p:nvSpPr>
            <p:cNvPr id="203" name="Line 3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8063640" y="4519080"/>
              <a:ext cx="478440" cy="3729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>
              <a:off x="8063640" y="3975120"/>
              <a:ext cx="970560" cy="7437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 flipH="1">
              <a:off x="8364960" y="4892040"/>
              <a:ext cx="176760" cy="5968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H="1">
              <a:off x="8668080" y="4718880"/>
              <a:ext cx="366120" cy="120780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7761240" y="5488920"/>
              <a:ext cx="604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7459200" y="5926680"/>
              <a:ext cx="1208520" cy="21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 flipV="1">
              <a:off x="7585200" y="4892040"/>
              <a:ext cx="175680" cy="5968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 flipH="1" flipV="1">
              <a:off x="7094520" y="4718520"/>
              <a:ext cx="365040" cy="120780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 flipV="1">
              <a:off x="7585200" y="4519080"/>
              <a:ext cx="478440" cy="3729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V="1">
              <a:off x="7094520" y="3975120"/>
              <a:ext cx="969120" cy="7437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8" name="Freeform 18"/>
            <p:cNvSpPr/>
            <p:nvPr/>
          </p:nvSpPr>
          <p:spPr>
            <a:xfrm>
              <a:off x="7094520" y="3975120"/>
              <a:ext cx="1713240" cy="1951560"/>
            </a:xfrm>
            <a:custGeom>
              <a:avLst/>
              <a:gdLst>
                <a:gd name="textAreaLeft" fmla="*/ 0 w 1713240"/>
                <a:gd name="textAreaRight" fmla="*/ 1713600 w 1713240"/>
                <a:gd name="textAreaTop" fmla="*/ 0 h 1951560"/>
                <a:gd name="textAreaBottom" fmla="*/ 1951920 h 1951560"/>
              </a:gdLst>
              <a:ahLst/>
              <a:rect l="textAreaLeft" t="textAreaTop" r="textAreaRight" b="textAreaBottom"/>
              <a:pathLst>
                <a:path w="136" h="147">
                  <a:moveTo>
                    <a:pt x="77" y="0"/>
                  </a:moveTo>
                  <a:lnTo>
                    <a:pt x="136" y="62"/>
                  </a:lnTo>
                  <a:lnTo>
                    <a:pt x="125" y="147"/>
                  </a:lnTo>
                  <a:lnTo>
                    <a:pt x="37" y="136"/>
                  </a:lnTo>
                  <a:lnTo>
                    <a:pt x="0" y="56"/>
                  </a:lnTo>
                  <a:lnTo>
                    <a:pt x="77" y="0"/>
                  </a:lnTo>
                </a:path>
              </a:pathLst>
            </a:custGeom>
            <a:noFill/>
            <a:ln w="1584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19" name="Rectangle 19"/>
          <p:cNvSpPr/>
          <p:nvPr/>
        </p:nvSpPr>
        <p:spPr>
          <a:xfrm>
            <a:off x="1028880" y="1477800"/>
            <a:ext cx="70246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Design/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50 minutes/50 minutes = 1, expected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25 minutes/50 minutes = .5, 50% of expected; Score = 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Design review/design time and code review/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25 minutes/50 minutes = .5, expected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5 minutes/50 minutes = .1, 20% of expected; Score = 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9536b"/>
              </a:buClr>
              <a:buFont typeface="Bodoni Bd BT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Score for unit test defects/K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measured value + 5), e.g.,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5 + 5) = 1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ny number less than 5, calculation &gt;1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10 + 5) = .66; Score = .66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9536b"/>
              </a:buClr>
              <a:buFont typeface="Bodoni Bd BT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Score for compile defects/KLOC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10) / (measured value + 10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QI for Softwa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alculate PQI, multiply the profile dimensions to produce a composite value that consi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and unit test defect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ti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spent in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test entry, PQI indicates the likelihood that a system element will have subsequen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lues above 0.4 are considered to be go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x Component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600120" y="1452600"/>
            <a:ext cx="8111520" cy="5173200"/>
            <a:chOff x="600120" y="1452600"/>
            <a:chExt cx="8111520" cy="5173200"/>
          </a:xfrm>
        </p:grpSpPr>
        <p:graphicFrame>
          <p:nvGraphicFramePr>
            <p:cNvPr id="224" name="Object 4"/>
            <p:cNvGraphicFramePr/>
            <p:nvPr/>
          </p:nvGraphicFramePr>
          <p:xfrm>
            <a:off x="600120" y="1452600"/>
            <a:ext cx="2581920" cy="224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120" y="1452600"/>
                      <a:ext cx="2581920" cy="22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5"/>
            <p:cNvGraphicFramePr/>
            <p:nvPr/>
          </p:nvGraphicFramePr>
          <p:xfrm>
            <a:off x="3263400" y="1452600"/>
            <a:ext cx="2590920" cy="2267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63400" y="1452600"/>
                      <a:ext cx="2590920" cy="22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6"/>
            <p:cNvGraphicFramePr/>
            <p:nvPr/>
          </p:nvGraphicFramePr>
          <p:xfrm>
            <a:off x="6008400" y="1452600"/>
            <a:ext cx="2580480" cy="22593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08400" y="1452600"/>
                      <a:ext cx="2580480" cy="225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Object 7"/>
            <p:cNvGraphicFramePr/>
            <p:nvPr/>
          </p:nvGraphicFramePr>
          <p:xfrm>
            <a:off x="603000" y="4322160"/>
            <a:ext cx="2580480" cy="226152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23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3000" y="4322160"/>
                      <a:ext cx="2580480" cy="22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Object 8"/>
            <p:cNvGraphicFramePr/>
            <p:nvPr/>
          </p:nvGraphicFramePr>
          <p:xfrm>
            <a:off x="3263400" y="4322160"/>
            <a:ext cx="2601000" cy="22816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23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63400" y="4322160"/>
                      <a:ext cx="2601000" cy="22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9"/>
            <p:cNvGraphicFramePr/>
            <p:nvPr/>
          </p:nvGraphicFramePr>
          <p:xfrm>
            <a:off x="6091560" y="4322160"/>
            <a:ext cx="2620080" cy="23036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23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1560" y="4322160"/>
                      <a:ext cx="2620080" cy="23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0"/>
          <p:cNvGraphicFramePr/>
          <p:nvPr/>
        </p:nvGraphicFramePr>
        <p:xfrm>
          <a:off x="436680" y="760320"/>
          <a:ext cx="825156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760320"/>
                    <a:ext cx="825156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Quality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506600"/>
            <a:ext cx="74134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combination of all five profile dimensions provides a reasonably comprehensive view of the development proces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When the quality profile indicates a high-quality program, that program is unlikely to have remaining defect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By examining the quality profiles for many programs, teams can quickly spot programs that are most likely to have quality problem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From the quality profile, teams can see which process area was most troublesome and presents an opportunity for improvemen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files should be used only as guide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ata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test data and try to identify the most troublesome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umber of defects found in any test is the best indicator of the number of defects likely to remain after that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yields can be 40-60%, so roughly as many defects remain as were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follows a good process, and the PQI is 0.4 or greater, test yields can be 70-9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the team reinspect and fix the components that are likely to have remaining defects, as time allows.  This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higher-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 integration and te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Quality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17360" y="1588680"/>
            <a:ext cx="741348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a consistent focus on quality, it is important to regularly analyze and report defec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needs to be looked at in contex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vide an indication of good and bad quality compon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vide hints on what may be done to reduce the risk of poor quality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can be examined for the system or at the individual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-level system data may be reported to 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data may indicate troublesome phases or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indicate components with specific probl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careful how data are handl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data begin to stabilize, consider statistical analysi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Prof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86696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101600" y="1509840"/>
          <a:ext cx="7434360" cy="49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509840"/>
                    <a:ext cx="74343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: Coaching Activ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SP Coach working with teams, think about and answer thes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role as a TSP Coach around the quality activiti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obstacles will you have in working with a team to fully adopt these practi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deas do you have of what a Coach can do to help teams overcome these obstacl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20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ensity Prof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890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224000" y="1611360"/>
          <a:ext cx="728352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611360"/>
                    <a:ext cx="72835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de Review Rate Run Cha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21193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750960" y="1496880"/>
          <a:ext cx="7602480" cy="487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1496880"/>
                    <a:ext cx="76024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Run Cha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114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779400" y="1511280"/>
          <a:ext cx="7715160" cy="488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511280"/>
                    <a:ext cx="77151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211464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768240" y="1473120"/>
          <a:ext cx="7772400" cy="495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8240" y="1473120"/>
                    <a:ext cx="7772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hase Yield Comparis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631800" y="1544760"/>
            <a:ext cx="78948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Economics of Qualit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CONOMICS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08080" y="1998720"/>
          <a:ext cx="7086600" cy="41688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  <a:gridCol w="1600200"/>
                <a:gridCol w="1828800"/>
              </a:tblGrid>
              <a:tr h="915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vg. removal rat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defects/hr)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hase yield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% of defects removed)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effor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Review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Inspection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Review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Inspection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nit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gration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63"/>
          <p:cNvSpPr/>
          <p:nvPr/>
        </p:nvSpPr>
        <p:spPr>
          <a:xfrm>
            <a:off x="3428640" y="1425600"/>
            <a:ext cx="124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Efficienc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Text Box 64"/>
          <p:cNvSpPr/>
          <p:nvPr/>
        </p:nvSpPr>
        <p:spPr>
          <a:xfrm>
            <a:off x="4776480" y="1425600"/>
            <a:ext cx="162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Effectiven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AutoShape 65"/>
          <p:cNvSpPr/>
          <p:nvPr/>
        </p:nvSpPr>
        <p:spPr>
          <a:xfrm rot="16200000">
            <a:off x="3938400" y="1096560"/>
            <a:ext cx="135000" cy="1544400"/>
          </a:xfrm>
          <a:custGeom>
            <a:avLst/>
            <a:gdLst>
              <a:gd name="textAreaLeft" fmla="*/ 0 w 135000"/>
              <a:gd name="textAreaRight" fmla="*/ 94680 w 135000"/>
              <a:gd name="textAreaTop" fmla="*/ 64080 h 1544400"/>
              <a:gd name="textAreaBottom" fmla="*/ 1480320 h 15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AutoShape 66"/>
          <p:cNvSpPr/>
          <p:nvPr/>
        </p:nvSpPr>
        <p:spPr>
          <a:xfrm rot="16200000">
            <a:off x="5492520" y="1086840"/>
            <a:ext cx="152280" cy="1581120"/>
          </a:xfrm>
          <a:custGeom>
            <a:avLst/>
            <a:gdLst>
              <a:gd name="textAreaLeft" fmla="*/ 0 w 152280"/>
              <a:gd name="textAreaRight" fmla="*/ 106920 w 152280"/>
              <a:gd name="textAreaTop" fmla="*/ 65880 h 1581120"/>
              <a:gd name="textAreaBottom" fmla="*/ 151524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Text Box 68"/>
          <p:cNvSpPr/>
          <p:nvPr/>
        </p:nvSpPr>
        <p:spPr>
          <a:xfrm>
            <a:off x="6473160" y="1425600"/>
            <a:ext cx="155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Predictabi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AutoShape 69"/>
          <p:cNvSpPr/>
          <p:nvPr/>
        </p:nvSpPr>
        <p:spPr>
          <a:xfrm rot="16200000">
            <a:off x="7180920" y="998640"/>
            <a:ext cx="166680" cy="1771920"/>
          </a:xfrm>
          <a:custGeom>
            <a:avLst/>
            <a:gdLst>
              <a:gd name="textAreaLeft" fmla="*/ 0 w 166680"/>
              <a:gd name="textAreaRight" fmla="*/ 117000 w 166680"/>
              <a:gd name="textAreaTop" fmla="*/ 73800 h 1771920"/>
              <a:gd name="textAreaBottom" fmla="*/ 1698120 h 17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Rectangle 85"/>
          <p:cNvSpPr/>
          <p:nvPr/>
        </p:nvSpPr>
        <p:spPr>
          <a:xfrm>
            <a:off x="6402240" y="4873680"/>
            <a:ext cx="173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Aft>
                <a:spcPts val="1125"/>
              </a:spcAft>
              <a:buClr>
                <a:srgbClr val="39536b"/>
              </a:buClr>
              <a:buSzPct val="70000"/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High variability - based on time to find &amp; fix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Rectangle 101"/>
          <p:cNvSpPr/>
          <p:nvPr/>
        </p:nvSpPr>
        <p:spPr>
          <a:xfrm>
            <a:off x="6429240" y="3213000"/>
            <a:ext cx="1606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Low variability - based on product siz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Economics of Quality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will review the attached spreadsh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what you would need to do to build an economics of quality table for you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the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help a team build a useful economics of quality ch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the team processes that are most related to their 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teams track defect data accurately associated with those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quality manager to build the economics of quality ch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report with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process improvement propos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that focus on quality will gain maximum benefits from TS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quality strategy focuses 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ding and fixing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venting defects from being 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prescribes methods for helping teams to manage their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can help the team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dentify their own quality matur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avigate a path towards continuous quality improv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7480" y="890280"/>
            <a:ext cx="7864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he Quality Journey, The Team, The Coach - 1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4720" y="1530000"/>
            <a:ext cx="7431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defined, the TSP has all of the necessary tools to navigate through the quality-improvement steps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spections are part of the proce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easurements are defined and available for us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ign methods are prescribed for softwar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foundation is laid for teams to look at defect prevention and user-based measur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overall challenge faced by the TSP coach involves knowing which steps the team and its individuals are taking, and what to do nex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sequence we are about to describe should help you in facing this challe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derstand the steps in the seque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cognize that individuals and teams can skip steps or fall bac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lways keep a focus of getting teams to the next step in the journe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7480" y="890280"/>
            <a:ext cx="7864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he Quality Journey, The Team, The Coach - 2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4720" y="1530000"/>
            <a:ext cx="7431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next portion of the quality module focuses on helping TSP Coaches anticipate and prepare for dealing with problems in moving teams through the quality journe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e will work on the following key activiti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derstanding the quality journe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nalyzing quality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conomics of qua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a TSP Coach, the first time a team engages in a new activity, you will need to take a strong role in leading this activ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he Quality Journe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Quality Journe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4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Quality is not a final result or destination.  It is a journey that never end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teams measure quality, they learn more about i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focus is on continuous improv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is journey can be described as a series of steps that navigate from a lack of quality or poor quality to continuous improv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, the team, and individual team members already understand PSP quality principles from an intellectual standpoi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 all have internalized these princip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dividuals will be at different stages on the job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a TSP coach, you need to understand where the individuals and the team are on this journey so that you can help them to navigate and continuously improv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36:58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8Z</dcterms:modified>
  <cp:revision>216</cp:revision>
  <dc:subject/>
  <dc:title>No Slide Title</dc:title>
</cp:coreProperties>
</file>